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C3F11-DC7C-4B22-B50D-33AD9BDD3F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3CFF4-F0CB-4E16-AB19-C62CA2B45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51F20-4E08-4CCB-8821-269D107B26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44552-C75C-4053-96C1-91CD07C439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6FA-A567-4A6C-B90C-6E8E1265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715-E511-44C0-A901-BDDD1F1A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E0F-0569-45B0-8B3F-81DFC527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9FC-1526-4B0E-A6F3-9DDFA1A2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369-174F-4460-AD20-52769F10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01F-A235-4C2E-BE57-93AD5999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7AA-251C-43DA-B2EC-8A58870C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F4E-950A-4200-803F-8D554EFE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E8E-B1D9-4420-845C-806AF7BA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D9E-44EE-4A79-9D9B-C59426E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A5F-866E-4DAE-A8C7-E55F8D8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19E-586A-4A53-A10F-F959050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8982A-F893-4792-AC74-63F97190FD0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DAD0F-C703-46A8-AD06-52F1E0DAEA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78880" cy="148140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65120" y="5102280"/>
            <a:ext cx="641376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2217600" y="1378080"/>
            <a:ext cx="45421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dff25"/>
                </a:solidFill>
                <a:latin typeface="Baskerville"/>
                <a:ea typeface="Baskerville"/>
              </a:rPr>
              <a:t>What makes up the water cycl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0a97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0dff2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ff25"/>
                </a:solidFill>
                <a:latin typeface="Baskerville"/>
                <a:ea typeface="Baskerville"/>
              </a:rPr>
              <a:t>Evapo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0dff2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buClr>
                <a:srgbClr val="0dff2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dff25"/>
                </a:solidFill>
                <a:latin typeface="Baskerville"/>
                <a:ea typeface="Baskerville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0dff2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0dff2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ff25"/>
                </a:solidFill>
                <a:latin typeface="Baskerville"/>
                <a:ea typeface="Baskerville"/>
              </a:rPr>
              <a:t>Precipi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0dff2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0dff2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ff25"/>
                </a:solidFill>
                <a:latin typeface="Baskerville"/>
                <a:ea typeface="Baskerville"/>
              </a:rPr>
              <a:t>Coll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dff2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Evaporation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006960" y="274680"/>
            <a:ext cx="2679840" cy="2687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746280" y="1600200"/>
            <a:ext cx="50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-The physical state of water  changes from a liquid to a    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55720" y="5384880"/>
            <a:ext cx="783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Air temperature, wind, and atmospheric pressure play a role in eva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593720" y="3313080"/>
            <a:ext cx="70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Evapotranspi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	</a:t>
            </a:r>
            <a:r>
              <a:rPr b="0" lang="en-US" sz="2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- the amount of water that is lost in </a:t>
            </a:r>
            <a:r>
              <a:rPr b="0" lang="en-US" sz="2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	</a:t>
            </a:r>
            <a:r>
              <a:rPr b="0" lang="en-US" sz="2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the atmosphere becaus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	</a:t>
            </a:r>
            <a:r>
              <a:rPr b="0" lang="en-US" sz="2400" spc="-1" strike="noStrike">
                <a:solidFill>
                  <a:srgbClr val="de5f00"/>
                </a:solidFill>
                <a:latin typeface="Lucida Handwriting"/>
                <a:ea typeface="Lucida Handwriting"/>
              </a:rPr>
              <a:t>evap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003c"/>
                </a:solidFill>
                <a:latin typeface="Century"/>
                <a:ea typeface="Century"/>
              </a:rPr>
              <a:t>Condensation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795240" y="274680"/>
            <a:ext cx="3505320" cy="1846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747720" y="2509920"/>
            <a:ext cx="76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hange in state of matter from vapor to </a:t>
            </a: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liqui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ccurs with cooling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95240" y="3962520"/>
            <a:ext cx="325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Transpiration – </a:t>
            </a: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where water from </a:t>
            </a: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plants, trees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animals go into </a:t>
            </a: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entury"/>
                <a:ea typeface="Century"/>
              </a:rPr>
              <a:t>the atmosphe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915080" y="3341520"/>
            <a:ext cx="31604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  </a:t>
            </a:r>
            <a:r>
              <a:rPr b="0" lang="en-US" sz="44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4821120" y="274680"/>
            <a:ext cx="3865680" cy="314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4316400" y="4148280"/>
            <a:ext cx="4370400" cy="2112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457200" y="1822320"/>
            <a:ext cx="46814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When any type of precip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falls from the atmospher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hits the groun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Kinds of Precip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- 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- S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- Sl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- H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	</a:t>
            </a:r>
            <a:r>
              <a:rPr b="0" lang="en-US" sz="2000" spc="-1" strike="noStrike">
                <a:solidFill>
                  <a:srgbClr val="ffb125"/>
                </a:solidFill>
                <a:latin typeface="Britannic Bold"/>
                <a:ea typeface="Britannic Bold"/>
              </a:rPr>
              <a:t>- Freezing 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Runoff and Groundwa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23880" y="4086360"/>
            <a:ext cx="221616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994360" y="1625760"/>
            <a:ext cx="2692440" cy="2280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650160" y="1452600"/>
            <a:ext cx="490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Run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	</a:t>
            </a: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- Where Rivers, lake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	</a:t>
            </a: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streams transport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	</a:t>
            </a: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water from land to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	</a:t>
            </a: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oce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421440" y="4389480"/>
            <a:ext cx="514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Ground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	</a:t>
            </a: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- This is water lo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	</a:t>
            </a: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below the ground and 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	</a:t>
            </a:r>
            <a:r>
              <a:rPr b="0" lang="en-US" sz="2800" spc="-1" strike="noStrike">
                <a:solidFill>
                  <a:srgbClr val="ccffcc"/>
                </a:solidFill>
                <a:latin typeface="Princetown LET"/>
                <a:ea typeface="Princetown LET"/>
              </a:rPr>
              <a:t>it returns to the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23bb3"/>
                </a:solidFill>
                <a:latin typeface="Chalkboard"/>
                <a:ea typeface="Chalkboard"/>
              </a:rPr>
              <a:t>Let’s Review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68200" y="1727280"/>
            <a:ext cx="857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914b3"/>
                </a:solidFill>
                <a:latin typeface="Chalkboard"/>
                <a:ea typeface="Chalkboard"/>
              </a:rPr>
              <a:t>Any type of liquid that falls to the ground 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914b3"/>
                </a:solidFill>
                <a:latin typeface="Chalkboard"/>
                <a:ea typeface="Chalkboard"/>
              </a:rPr>
              <a:t>atmosphere i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39120" y="219852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7914b3"/>
                </a:solidFill>
                <a:uFillTx/>
                <a:latin typeface="Chalkboard"/>
                <a:ea typeface="Chalkboard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126720" y="3429000"/>
            <a:ext cx="86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914b3"/>
                </a:solidFill>
                <a:latin typeface="Chalkboard"/>
                <a:ea typeface="Chalkboard"/>
              </a:rPr>
              <a:t>Amount of water lost in the atmosphere is called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79200" y="3952800"/>
            <a:ext cx="33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7914b3"/>
                </a:solidFill>
                <a:uFillTx/>
                <a:latin typeface="Chalkboard"/>
                <a:ea typeface="Chalkboard"/>
              </a:rPr>
              <a:t>Evapotran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140400" y="5146560"/>
            <a:ext cx="72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914b3"/>
                </a:solidFill>
                <a:latin typeface="Chalkboard"/>
                <a:ea typeface="Chalkboard"/>
              </a:rPr>
              <a:t>Water located below the ground is call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97560" y="566892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7914b3"/>
                </a:solidFill>
                <a:uFillTx/>
                <a:latin typeface="Chalkboard"/>
                <a:ea typeface="Chalkboard"/>
              </a:rPr>
              <a:t>Ground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0:30:48Z</dcterms:created>
  <dc:creator>Laura Negley</dc:creator>
  <dc:description/>
  <dc:language>en-US</dc:language>
  <cp:lastModifiedBy>Laura Negley</cp:lastModifiedBy>
  <cp:lastPrinted>2009-10-19T01:28:09Z</cp:lastPrinted>
  <dcterms:modified xsi:type="dcterms:W3CDTF">2009-10-19T01:56:33Z</dcterms:modified>
  <cp:revision>14</cp:revision>
  <dc:subject/>
  <dc:title>The Water Cycle!</dc:title>
</cp:coreProperties>
</file>